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31E-62B4-49B9-8D4F-B700BDDE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157D-6FC1-421F-B1D0-9D75B935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A37-B2D8-4ACC-A176-95AF4F0A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97F-A69D-452B-A8E1-5C11DE16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7F30-6778-4CEC-973B-BD248C101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98B7-5777-4369-B36C-8DAF6054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FEC9-2BBF-43B4-9633-CE65C9B0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FF2-8F55-46D2-9939-C320C591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73B3-C204-47F8-9C47-11AD7BEB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0DDE-2339-4921-B8DF-75C3BBA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4133-5211-4897-965C-674726D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228-B903-42EF-B468-10FE2BFF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F1DA-4049-4777-877D-008D698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115E-0E17-4624-A6DA-C8A7170F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3BD4-CE1F-4DFE-B5E8-AFE00EF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F0F4C-9C84-47D6-997A-0A4A5A09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5B4-C066-46B2-928F-80357633A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36D-9B93-43E3-8475-CA4962A4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192-3C5A-47B7-A128-95CF1E99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897-2BBE-4767-B337-9AE9FE0C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74EF-9D4B-4645-BB0D-C1CF01A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98F-0511-4013-A8EC-7452DE3D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C8B-CFBD-4E7A-8B50-DBA93370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70A9-ACED-4DAF-9661-602C69D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50A0-C8C9-4F05-BCA0-028CAB352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A92-D0A7-406A-8613-2FECBAEAD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3800" y="2610000"/>
            <a:ext cx="833616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cesse o Portal do Governo Brasilei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34120"/>
            <a:ext cx="2195640" cy="6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5086440"/>
            <a:ext cx="48564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1120" y="42210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ão Pessoa – PB, 21 de novembr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3240" y="2062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P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2520" y="228600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ormulação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011320"/>
                <a:ext cx="55814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istur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0" y="3657600"/>
          <a:ext cx="9144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91600" y="11923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ção de mistura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11440" y="1962000"/>
                <a:ext cx="4719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66760" y="3352680"/>
          <a:ext cx="868032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352680"/>
                    <a:ext cx="868032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7080" y="3352680"/>
                <a:ext cx="6703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9528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ão Indispo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 termos qualitativos no ponto de lan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047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8280" y="1793880"/>
            <a:ext cx="7497720" cy="1711440"/>
            <a:chOff x="368280" y="1793880"/>
            <a:chExt cx="7497720" cy="1711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125360" y="2235240"/>
                  <a:ext cx="67406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368280" y="17938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6880" y="3848040"/>
            <a:ext cx="7369200" cy="1461960"/>
            <a:chOff x="326880" y="3848040"/>
            <a:chExt cx="7369200" cy="1461960"/>
          </a:xfrm>
        </p:grpSpPr>
        <p:sp>
          <p:nvSpPr>
            <p:cNvPr id="204" name=""/>
            <p:cNvSpPr/>
            <p:nvPr/>
          </p:nvSpPr>
          <p:spPr>
            <a:xfrm>
              <a:off x="326880" y="384804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olifor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219320" y="4095720"/>
                  <a:ext cx="647676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636840" y="542916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240" y="1714680"/>
            <a:ext cx="7103880" cy="1828440"/>
            <a:chOff x="363240" y="171468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767240" y="249300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363240" y="171468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8160" y="3600360"/>
            <a:ext cx="8302320" cy="1371600"/>
            <a:chOff x="308160" y="3600360"/>
            <a:chExt cx="8302320" cy="1371600"/>
          </a:xfrm>
        </p:grpSpPr>
        <p:sp>
          <p:nvSpPr>
            <p:cNvPr id="212" name=""/>
            <p:cNvSpPr/>
            <p:nvPr/>
          </p:nvSpPr>
          <p:spPr>
            <a:xfrm>
              <a:off x="308160" y="360036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762120" y="4133880"/>
                  <a:ext cx="7848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503280" y="556272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933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629400" cy="4748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4680" y="4875120"/>
            <a:ext cx="3102840" cy="398880"/>
          </a:xfrm>
          <a:prstGeom prst="wedgeRectCallout">
            <a:avLst>
              <a:gd name="adj1" fmla="val -83476"/>
              <a:gd name="adj2" fmla="val -15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emperatura natural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0520" y="6095880"/>
            <a:ext cx="3521880" cy="398880"/>
          </a:xfrm>
          <a:prstGeom prst="wedgeRectCallout">
            <a:avLst>
              <a:gd name="adj1" fmla="val -66402"/>
              <a:gd name="adj2" fmla="val -166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onto de lançamento do efl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160" y="1752480"/>
            <a:ext cx="4944600" cy="581400"/>
          </a:xfrm>
          <a:prstGeom prst="wedgeRectCallout">
            <a:avLst>
              <a:gd name="adj1" fmla="val -65736"/>
              <a:gd name="adj2" fmla="val 8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mperatura atingida pelo manancial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240" y="3048120"/>
            <a:ext cx="3299400" cy="703800"/>
          </a:xfrm>
          <a:prstGeom prst="wedgeRectCallout">
            <a:avLst>
              <a:gd name="adj1" fmla="val -91652"/>
              <a:gd name="adj2" fmla="val 7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caimento da temperatura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ngo do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87040" y="3643200"/>
            <a:ext cx="2000880" cy="321480"/>
            <a:chOff x="3587040" y="3643200"/>
            <a:chExt cx="2000880" cy="321480"/>
          </a:xfrm>
        </p:grpSpPr>
        <p:grpSp>
          <p:nvGrpSpPr>
            <p:cNvPr id="226" name=""/>
            <p:cNvGrpSpPr/>
            <p:nvPr/>
          </p:nvGrpSpPr>
          <p:grpSpPr>
            <a:xfrm>
              <a:off x="3587040" y="3643200"/>
              <a:ext cx="2000880" cy="305280"/>
              <a:chOff x="3587040" y="3643200"/>
              <a:chExt cx="2000880" cy="305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4044960" y="3828960"/>
                <a:ext cx="1542960" cy="15840"/>
                <a:chOff x="4044960" y="3828960"/>
                <a:chExt cx="1542960" cy="15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44960" y="38289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71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1036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33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65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972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27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59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908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21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5276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84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1468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6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78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08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03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5720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036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339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656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72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75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9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21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53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48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15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9467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784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86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403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720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1037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133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65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973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27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924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128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21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3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84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415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6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78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08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40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72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587040" y="3643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33200" y="375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0480" y="1698480"/>
            <a:ext cx="8053560" cy="3525840"/>
            <a:chOff x="690480" y="1698480"/>
            <a:chExt cx="8053560" cy="3525840"/>
          </a:xfrm>
        </p:grpSpPr>
        <p:grpSp>
          <p:nvGrpSpPr>
            <p:cNvPr id="281" name=""/>
            <p:cNvGrpSpPr/>
            <p:nvPr/>
          </p:nvGrpSpPr>
          <p:grpSpPr>
            <a:xfrm>
              <a:off x="690480" y="1698480"/>
              <a:ext cx="8053560" cy="3525840"/>
              <a:chOff x="690480" y="1698480"/>
              <a:chExt cx="8053560" cy="3525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097000" y="4140360"/>
                <a:ext cx="6251760" cy="171360"/>
                <a:chOff x="2097000" y="4140360"/>
                <a:chExt cx="6251760" cy="17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97000" y="4224240"/>
                  <a:ext cx="6094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182080" y="4140360"/>
                  <a:ext cx="166680" cy="171360"/>
                </a:xfrm>
                <a:custGeom>
                  <a:avLst/>
                  <a:gdLst/>
                  <a:ahLst/>
                  <a:rect l="l" t="t" r="r" b="b"/>
                  <a:pathLst>
                    <a:path w="105" h="108">
                      <a:moveTo>
                        <a:pt x="0" y="108"/>
                      </a:moveTo>
                      <a:lnTo>
                        <a:pt x="105" y="56"/>
                      </a:lnTo>
                      <a:lnTo>
                        <a:pt x="0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967200" y="1936800"/>
                <a:ext cx="171360" cy="2271600"/>
                <a:chOff x="3967200" y="1936800"/>
                <a:chExt cx="171360" cy="227160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>
                  <a:off x="4051080" y="2092320"/>
                  <a:ext cx="4680" cy="211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67200" y="1936800"/>
                  <a:ext cx="171360" cy="171360"/>
                </a:xfrm>
                <a:custGeom>
                  <a:avLst/>
                  <a:gdLst/>
                  <a:ahLst/>
                  <a:rect l="l" t="t" r="r" b="b"/>
                  <a:pathLst>
                    <a:path w="108" h="108">
                      <a:moveTo>
                        <a:pt x="108" y="108"/>
                      </a:moveTo>
                      <a:lnTo>
                        <a:pt x="56" y="0"/>
                      </a:lnTo>
                      <a:lnTo>
                        <a:pt x="0" y="108"/>
                      </a:lnTo>
                      <a:lnTo>
                        <a:pt x="10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4030560" y="2476440"/>
                <a:ext cx="4014720" cy="1757520"/>
              </a:xfrm>
              <a:custGeom>
                <a:avLst/>
                <a:gdLst/>
                <a:ahLst/>
                <a:rect l="l" t="t" r="r" b="b"/>
                <a:pathLst>
                  <a:path w="2529" h="1107">
                    <a:moveTo>
                      <a:pt x="26" y="0"/>
                    </a:moveTo>
                    <a:lnTo>
                      <a:pt x="0" y="7"/>
                    </a:lnTo>
                    <a:lnTo>
                      <a:pt x="32" y="131"/>
                    </a:lnTo>
                    <a:lnTo>
                      <a:pt x="52" y="193"/>
                    </a:lnTo>
                    <a:lnTo>
                      <a:pt x="75" y="255"/>
                    </a:lnTo>
                    <a:lnTo>
                      <a:pt x="82" y="265"/>
                    </a:lnTo>
                    <a:lnTo>
                      <a:pt x="111" y="327"/>
                    </a:lnTo>
                    <a:lnTo>
                      <a:pt x="147" y="385"/>
                    </a:lnTo>
                    <a:lnTo>
                      <a:pt x="193" y="441"/>
                    </a:lnTo>
                    <a:lnTo>
                      <a:pt x="249" y="500"/>
                    </a:lnTo>
                    <a:lnTo>
                      <a:pt x="282" y="523"/>
                    </a:lnTo>
                    <a:lnTo>
                      <a:pt x="318" y="549"/>
                    </a:lnTo>
                    <a:lnTo>
                      <a:pt x="397" y="601"/>
                    </a:lnTo>
                    <a:lnTo>
                      <a:pt x="485" y="650"/>
                    </a:lnTo>
                    <a:lnTo>
                      <a:pt x="580" y="699"/>
                    </a:lnTo>
                    <a:lnTo>
                      <a:pt x="682" y="741"/>
                    </a:lnTo>
                    <a:lnTo>
                      <a:pt x="784" y="784"/>
                    </a:lnTo>
                    <a:lnTo>
                      <a:pt x="794" y="790"/>
                    </a:lnTo>
                    <a:lnTo>
                      <a:pt x="895" y="829"/>
                    </a:lnTo>
                    <a:lnTo>
                      <a:pt x="994" y="862"/>
                    </a:lnTo>
                    <a:lnTo>
                      <a:pt x="1099" y="895"/>
                    </a:lnTo>
                    <a:lnTo>
                      <a:pt x="1207" y="921"/>
                    </a:lnTo>
                    <a:lnTo>
                      <a:pt x="1319" y="947"/>
                    </a:lnTo>
                    <a:lnTo>
                      <a:pt x="1430" y="967"/>
                    </a:lnTo>
                    <a:lnTo>
                      <a:pt x="1538" y="986"/>
                    </a:lnTo>
                    <a:lnTo>
                      <a:pt x="1647" y="1003"/>
                    </a:lnTo>
                    <a:lnTo>
                      <a:pt x="1752" y="1019"/>
                    </a:lnTo>
                    <a:lnTo>
                      <a:pt x="1850" y="1035"/>
                    </a:lnTo>
                    <a:lnTo>
                      <a:pt x="1850" y="1019"/>
                    </a:lnTo>
                    <a:lnTo>
                      <a:pt x="1850" y="1032"/>
                    </a:lnTo>
                    <a:lnTo>
                      <a:pt x="1949" y="1048"/>
                    </a:lnTo>
                    <a:lnTo>
                      <a:pt x="2047" y="1065"/>
                    </a:lnTo>
                    <a:lnTo>
                      <a:pt x="2146" y="1078"/>
                    </a:lnTo>
                    <a:lnTo>
                      <a:pt x="2241" y="1087"/>
                    </a:lnTo>
                    <a:lnTo>
                      <a:pt x="2326" y="1097"/>
                    </a:lnTo>
                    <a:lnTo>
                      <a:pt x="2408" y="1104"/>
                    </a:lnTo>
                    <a:lnTo>
                      <a:pt x="2444" y="1104"/>
                    </a:lnTo>
                    <a:lnTo>
                      <a:pt x="2474" y="1107"/>
                    </a:lnTo>
                    <a:lnTo>
                      <a:pt x="2503" y="1107"/>
                    </a:lnTo>
                    <a:lnTo>
                      <a:pt x="2529" y="1107"/>
                    </a:lnTo>
                    <a:lnTo>
                      <a:pt x="2529" y="1078"/>
                    </a:lnTo>
                    <a:lnTo>
                      <a:pt x="2503" y="1078"/>
                    </a:lnTo>
                    <a:lnTo>
                      <a:pt x="2474" y="1078"/>
                    </a:lnTo>
                    <a:lnTo>
                      <a:pt x="2444" y="1074"/>
                    </a:lnTo>
                    <a:lnTo>
                      <a:pt x="2408" y="1074"/>
                    </a:lnTo>
                    <a:lnTo>
                      <a:pt x="2326" y="1068"/>
                    </a:lnTo>
                    <a:lnTo>
                      <a:pt x="2241" y="1058"/>
                    </a:lnTo>
                    <a:lnTo>
                      <a:pt x="2146" y="1048"/>
                    </a:lnTo>
                    <a:lnTo>
                      <a:pt x="2047" y="1035"/>
                    </a:lnTo>
                    <a:lnTo>
                      <a:pt x="1949" y="1019"/>
                    </a:lnTo>
                    <a:lnTo>
                      <a:pt x="1853" y="1006"/>
                    </a:lnTo>
                    <a:lnTo>
                      <a:pt x="1853" y="1006"/>
                    </a:lnTo>
                    <a:lnTo>
                      <a:pt x="1752" y="989"/>
                    </a:lnTo>
                    <a:lnTo>
                      <a:pt x="1647" y="973"/>
                    </a:lnTo>
                    <a:lnTo>
                      <a:pt x="1538" y="957"/>
                    </a:lnTo>
                    <a:lnTo>
                      <a:pt x="1430" y="937"/>
                    </a:lnTo>
                    <a:lnTo>
                      <a:pt x="1319" y="918"/>
                    </a:lnTo>
                    <a:lnTo>
                      <a:pt x="1207" y="892"/>
                    </a:lnTo>
                    <a:lnTo>
                      <a:pt x="1099" y="865"/>
                    </a:lnTo>
                    <a:lnTo>
                      <a:pt x="1004" y="836"/>
                    </a:lnTo>
                    <a:lnTo>
                      <a:pt x="895" y="800"/>
                    </a:lnTo>
                    <a:lnTo>
                      <a:pt x="794" y="761"/>
                    </a:lnTo>
                    <a:lnTo>
                      <a:pt x="794" y="774"/>
                    </a:lnTo>
                    <a:lnTo>
                      <a:pt x="803" y="764"/>
                    </a:lnTo>
                    <a:lnTo>
                      <a:pt x="702" y="722"/>
                    </a:lnTo>
                    <a:lnTo>
                      <a:pt x="600" y="679"/>
                    </a:lnTo>
                    <a:lnTo>
                      <a:pt x="505" y="630"/>
                    </a:lnTo>
                    <a:lnTo>
                      <a:pt x="416" y="581"/>
                    </a:lnTo>
                    <a:lnTo>
                      <a:pt x="338" y="529"/>
                    </a:lnTo>
                    <a:lnTo>
                      <a:pt x="301" y="503"/>
                    </a:lnTo>
                    <a:lnTo>
                      <a:pt x="269" y="477"/>
                    </a:lnTo>
                    <a:lnTo>
                      <a:pt x="213" y="421"/>
                    </a:lnTo>
                    <a:lnTo>
                      <a:pt x="167" y="366"/>
                    </a:lnTo>
                    <a:lnTo>
                      <a:pt x="131" y="307"/>
                    </a:lnTo>
                    <a:lnTo>
                      <a:pt x="101" y="245"/>
                    </a:lnTo>
                    <a:lnTo>
                      <a:pt x="91" y="255"/>
                    </a:lnTo>
                    <a:lnTo>
                      <a:pt x="105" y="255"/>
                    </a:lnTo>
                    <a:lnTo>
                      <a:pt x="82" y="193"/>
                    </a:lnTo>
                    <a:lnTo>
                      <a:pt x="62" y="13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106800" y="2305080"/>
                <a:ext cx="767880" cy="322920"/>
                <a:chOff x="3106800" y="2305080"/>
                <a:chExt cx="767880" cy="32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06800" y="2305080"/>
                  <a:ext cx="666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83960" y="241452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637040" y="4336920"/>
                <a:ext cx="822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rech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49920" y="1797120"/>
                <a:ext cx="1826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emperatura da águ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0480" y="1698480"/>
                <a:ext cx="8053560" cy="3525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7240" y="3835440"/>
                <a:ext cx="9273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006640" y="3917880"/>
              <a:ext cx="58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T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01080" y="4343400"/>
            <a:ext cx="978120" cy="726120"/>
            <a:chOff x="3601080" y="4343400"/>
            <a:chExt cx="978120" cy="726120"/>
          </a:xfrm>
        </p:grpSpPr>
        <p:sp>
          <p:nvSpPr>
            <p:cNvPr id="298" name=""/>
            <p:cNvSpPr/>
            <p:nvPr/>
          </p:nvSpPr>
          <p:spPr>
            <a:xfrm>
              <a:off x="4425120" y="4856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01080" y="4343400"/>
              <a:ext cx="978120" cy="708480"/>
              <a:chOff x="3601080" y="4343400"/>
              <a:chExt cx="978120" cy="70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4514400" y="4746600"/>
                <a:ext cx="64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01080" y="4343400"/>
                <a:ext cx="808560" cy="708480"/>
                <a:chOff x="3601080" y="4343400"/>
                <a:chExt cx="808560" cy="708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1080" y="474660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3967200" y="4343400"/>
                  <a:ext cx="171360" cy="382680"/>
                  <a:chOff x="3967200" y="4343400"/>
                  <a:chExt cx="171360" cy="382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4051440" y="449280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967200" y="4343400"/>
                    <a:ext cx="1713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4">
                        <a:moveTo>
                          <a:pt x="108" y="104"/>
                        </a:moveTo>
                        <a:lnTo>
                          <a:pt x="56" y="0"/>
                        </a:lnTo>
                        <a:lnTo>
                          <a:pt x="0" y="104"/>
                        </a:lnTo>
                        <a:lnTo>
                          <a:pt x="10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6" name=""/>
          <p:cNvGrpSpPr/>
          <p:nvPr/>
        </p:nvGrpSpPr>
        <p:grpSpPr>
          <a:xfrm>
            <a:off x="5115960" y="3828960"/>
            <a:ext cx="925200" cy="1245600"/>
            <a:chOff x="5115960" y="3828960"/>
            <a:chExt cx="925200" cy="1245600"/>
          </a:xfrm>
        </p:grpSpPr>
        <p:sp>
          <p:nvSpPr>
            <p:cNvPr id="307" name=""/>
            <p:cNvSpPr/>
            <p:nvPr/>
          </p:nvSpPr>
          <p:spPr>
            <a:xfrm>
              <a:off x="5941440" y="4861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115960" y="3828960"/>
              <a:ext cx="822240" cy="1229400"/>
              <a:chOff x="5115960" y="3828960"/>
              <a:chExt cx="822240" cy="1229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560920" y="3828960"/>
                <a:ext cx="15840" cy="384120"/>
                <a:chOff x="5560920" y="3828960"/>
                <a:chExt cx="15840" cy="384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60920" y="382896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0920" y="385596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8862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60920" y="39178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0920" y="39481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60920" y="39798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560920" y="40114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60920" y="40417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40734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60920" y="4103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60920" y="41353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60920" y="41673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60920" y="41972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15960" y="4352760"/>
                <a:ext cx="822240" cy="705600"/>
                <a:chOff x="5115960" y="4352760"/>
                <a:chExt cx="822240" cy="70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115960" y="4753080"/>
                  <a:ext cx="822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2000" spc="-1" strike="noStrike">
                      <a:solidFill>
                        <a:srgbClr val="ff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5483160" y="4352760"/>
                  <a:ext cx="171360" cy="389160"/>
                  <a:chOff x="5483160" y="4352760"/>
                  <a:chExt cx="171360" cy="3891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V="1">
                    <a:off x="5567400" y="450864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483160" y="4352760"/>
                    <a:ext cx="17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8">
                        <a:moveTo>
                          <a:pt x="108" y="108"/>
                        </a:moveTo>
                        <a:lnTo>
                          <a:pt x="53" y="0"/>
                        </a:lnTo>
                        <a:lnTo>
                          <a:pt x="0" y="108"/>
                        </a:lnTo>
                        <a:lnTo>
                          <a:pt x="10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8" name=""/>
          <p:cNvGrpSpPr/>
          <p:nvPr/>
        </p:nvGrpSpPr>
        <p:grpSpPr>
          <a:xfrm>
            <a:off x="5567400" y="2855880"/>
            <a:ext cx="2246400" cy="1368360"/>
            <a:chOff x="5567400" y="2855880"/>
            <a:chExt cx="2246400" cy="1368360"/>
          </a:xfrm>
        </p:grpSpPr>
        <p:sp>
          <p:nvSpPr>
            <p:cNvPr id="329" name=""/>
            <p:cNvSpPr/>
            <p:nvPr/>
          </p:nvSpPr>
          <p:spPr>
            <a:xfrm>
              <a:off x="5567400" y="3835440"/>
              <a:ext cx="196920" cy="38880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0" y="245"/>
                  </a:moveTo>
                  <a:lnTo>
                    <a:pt x="23" y="245"/>
                  </a:lnTo>
                  <a:lnTo>
                    <a:pt x="42" y="238"/>
                  </a:lnTo>
                  <a:lnTo>
                    <a:pt x="55" y="231"/>
                  </a:lnTo>
                  <a:lnTo>
                    <a:pt x="62" y="225"/>
                  </a:lnTo>
                  <a:lnTo>
                    <a:pt x="62" y="143"/>
                  </a:lnTo>
                  <a:lnTo>
                    <a:pt x="65" y="137"/>
                  </a:lnTo>
                  <a:lnTo>
                    <a:pt x="78" y="130"/>
                  </a:lnTo>
                  <a:lnTo>
                    <a:pt x="98" y="127"/>
                  </a:lnTo>
                  <a:lnTo>
                    <a:pt x="124" y="124"/>
                  </a:lnTo>
                  <a:lnTo>
                    <a:pt x="98" y="124"/>
                  </a:lnTo>
                  <a:lnTo>
                    <a:pt x="78" y="117"/>
                  </a:lnTo>
                  <a:lnTo>
                    <a:pt x="65" y="111"/>
                  </a:lnTo>
                  <a:lnTo>
                    <a:pt x="62" y="104"/>
                  </a:lnTo>
                  <a:lnTo>
                    <a:pt x="62" y="22"/>
                  </a:lnTo>
                  <a:lnTo>
                    <a:pt x="55" y="13"/>
                  </a:lnTo>
                  <a:lnTo>
                    <a:pt x="42" y="6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764320" y="3254400"/>
              <a:ext cx="780840" cy="777600"/>
              <a:chOff x="5764320" y="3254400"/>
              <a:chExt cx="780840" cy="7776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5764320" y="3362040"/>
                <a:ext cx="672840" cy="669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69120" y="3254400"/>
                <a:ext cx="176040" cy="1810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75" y="114"/>
                    </a:moveTo>
                    <a:lnTo>
                      <a:pt x="111" y="0"/>
                    </a:lnTo>
                    <a:lnTo>
                      <a:pt x="0" y="39"/>
                    </a:lnTo>
                    <a:lnTo>
                      <a:pt x="75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68920" y="2855880"/>
              <a:ext cx="1244880" cy="754560"/>
              <a:chOff x="6568920" y="2855880"/>
              <a:chExt cx="1244880" cy="754560"/>
            </a:xfrm>
          </p:grpSpPr>
          <p:sp>
            <p:nvSpPr>
              <p:cNvPr id="334" name=""/>
              <p:cNvSpPr/>
              <p:nvPr/>
            </p:nvSpPr>
            <p:spPr>
              <a:xfrm>
                <a:off x="6568920" y="3228840"/>
                <a:ext cx="12448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51360" y="3427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45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79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0040" y="3265560"/>
                <a:ext cx="848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Qindis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9040" y="2884320"/>
                <a:ext cx="60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Tma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360" y="2884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2800" y="285588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914400" y="2476440"/>
            <a:ext cx="2219400" cy="1731960"/>
            <a:chOff x="914400" y="2476440"/>
            <a:chExt cx="2219400" cy="1731960"/>
          </a:xfrm>
        </p:grpSpPr>
        <p:sp>
          <p:nvSpPr>
            <p:cNvPr id="343" name=""/>
            <p:cNvSpPr/>
            <p:nvPr/>
          </p:nvSpPr>
          <p:spPr>
            <a:xfrm>
              <a:off x="2878200" y="2476440"/>
              <a:ext cx="255600" cy="1731960"/>
            </a:xfrm>
            <a:custGeom>
              <a:avLst/>
              <a:gdLst/>
              <a:ahLst/>
              <a:rect l="l" t="t" r="r" b="b"/>
              <a:pathLst>
                <a:path w="161" h="1091">
                  <a:moveTo>
                    <a:pt x="161" y="0"/>
                  </a:moveTo>
                  <a:lnTo>
                    <a:pt x="145" y="3"/>
                  </a:lnTo>
                  <a:lnTo>
                    <a:pt x="128" y="7"/>
                  </a:lnTo>
                  <a:lnTo>
                    <a:pt x="102" y="26"/>
                  </a:lnTo>
                  <a:lnTo>
                    <a:pt x="86" y="56"/>
                  </a:lnTo>
                  <a:lnTo>
                    <a:pt x="82" y="72"/>
                  </a:lnTo>
                  <a:lnTo>
                    <a:pt x="79" y="92"/>
                  </a:lnTo>
                  <a:lnTo>
                    <a:pt x="79" y="454"/>
                  </a:lnTo>
                  <a:lnTo>
                    <a:pt x="73" y="490"/>
                  </a:lnTo>
                  <a:lnTo>
                    <a:pt x="56" y="519"/>
                  </a:lnTo>
                  <a:lnTo>
                    <a:pt x="33" y="539"/>
                  </a:lnTo>
                  <a:lnTo>
                    <a:pt x="17" y="542"/>
                  </a:lnTo>
                  <a:lnTo>
                    <a:pt x="0" y="545"/>
                  </a:lnTo>
                  <a:lnTo>
                    <a:pt x="17" y="549"/>
                  </a:lnTo>
                  <a:lnTo>
                    <a:pt x="33" y="552"/>
                  </a:lnTo>
                  <a:lnTo>
                    <a:pt x="56" y="572"/>
                  </a:lnTo>
                  <a:lnTo>
                    <a:pt x="73" y="601"/>
                  </a:lnTo>
                  <a:lnTo>
                    <a:pt x="79" y="637"/>
                  </a:lnTo>
                  <a:lnTo>
                    <a:pt x="79" y="999"/>
                  </a:lnTo>
                  <a:lnTo>
                    <a:pt x="82" y="1019"/>
                  </a:lnTo>
                  <a:lnTo>
                    <a:pt x="86" y="1035"/>
                  </a:lnTo>
                  <a:lnTo>
                    <a:pt x="102" y="1065"/>
                  </a:lnTo>
                  <a:lnTo>
                    <a:pt x="128" y="1084"/>
                  </a:lnTo>
                  <a:lnTo>
                    <a:pt x="145" y="1087"/>
                  </a:lnTo>
                  <a:lnTo>
                    <a:pt x="161" y="10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4400" y="2886120"/>
              <a:ext cx="2116080" cy="912600"/>
              <a:chOff x="914400" y="2886120"/>
              <a:chExt cx="2116080" cy="912600"/>
            </a:xfrm>
          </p:grpSpPr>
          <p:sp>
            <p:nvSpPr>
              <p:cNvPr id="345" name=""/>
              <p:cNvSpPr/>
              <p:nvPr/>
            </p:nvSpPr>
            <p:spPr>
              <a:xfrm>
                <a:off x="914400" y="2886120"/>
                <a:ext cx="21160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04840" y="2962440"/>
                <a:ext cx="1697040" cy="743040"/>
                <a:chOff x="1104840" y="2962440"/>
                <a:chExt cx="1697040" cy="74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104840" y="3327480"/>
                  <a:ext cx="16970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12640" y="352260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902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758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90400" y="3363840"/>
                  <a:ext cx="8481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3840" y="2990880"/>
                  <a:ext cx="6087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man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05560" y="2990880"/>
                  <a:ext cx="6973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55520" y="2962440"/>
                  <a:ext cx="892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37960" y="5675400"/>
                <a:ext cx="3495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er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3949560" y="5662440"/>
            <a:ext cx="4735800" cy="806760"/>
            <a:chOff x="3949560" y="5662440"/>
            <a:chExt cx="4735800" cy="80676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635360" y="5662440"/>
                  <a:ext cx="405000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indis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3949560" y="60642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598920" y="2352600"/>
            <a:ext cx="5519520" cy="4134240"/>
            <a:chOff x="3598920" y="2352600"/>
            <a:chExt cx="5519520" cy="41342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598920" y="2352600"/>
              <a:ext cx="5519520" cy="386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2" name=""/>
            <p:cNvSpPr/>
            <p:nvPr/>
          </p:nvSpPr>
          <p:spPr>
            <a:xfrm>
              <a:off x="6672960" y="6210360"/>
              <a:ext cx="23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Fonte: Thomann e Mueller, 1987)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7200" y="1612800"/>
                <a:ext cx="27892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14480" y="2881440"/>
            <a:ext cx="34290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oeficiente de tro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lor (cal/cm².dia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da velocidad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 e da temperatur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densidade da água (g/cm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alor específico (cal/g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profundidade médi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so d’água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892840"/>
            <a:ext cx="2436840" cy="51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 2,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38720" y="3429000"/>
            <a:ext cx="1833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172200" y="3423960"/>
            <a:ext cx="0" cy="22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10880" y="2666880"/>
            <a:ext cx="1452240" cy="509400"/>
          </a:xfrm>
          <a:prstGeom prst="wedgeRectCallout">
            <a:avLst>
              <a:gd name="adj1" fmla="val 57805"/>
              <a:gd name="adj2" fmla="val 97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733840" y="3859920"/>
            <a:ext cx="5833800" cy="2426400"/>
            <a:chOff x="2733840" y="3859920"/>
            <a:chExt cx="5833800" cy="2426400"/>
          </a:xfrm>
        </p:grpSpPr>
        <p:sp>
          <p:nvSpPr>
            <p:cNvPr id="372" name=""/>
            <p:cNvSpPr/>
            <p:nvPr/>
          </p:nvSpPr>
          <p:spPr>
            <a:xfrm rot="5741400">
              <a:off x="3141720" y="3674520"/>
              <a:ext cx="2054160" cy="2679840"/>
            </a:xfrm>
            <a:prstGeom prst="flowChartDelay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38640" y="4609800"/>
              <a:ext cx="3429000" cy="167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022000">
              <a:off x="6378840" y="5542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58800">
              <a:off x="3119400" y="4238280"/>
              <a:ext cx="21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ã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iodegradá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87624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zões indisponíveis para D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ervativo e não-conserv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880" y="54291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QO = Demanda 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5920" y="573876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O = Demanda Bio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240" y="6083280"/>
            <a:ext cx="39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QO = DBO + Material n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degrad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14080" y="1815480"/>
            <a:ext cx="2643120" cy="2432520"/>
            <a:chOff x="3214080" y="1815480"/>
            <a:chExt cx="2643120" cy="2432520"/>
          </a:xfrm>
        </p:grpSpPr>
        <p:sp>
          <p:nvSpPr>
            <p:cNvPr id="382" name=""/>
            <p:cNvSpPr/>
            <p:nvPr/>
          </p:nvSpPr>
          <p:spPr>
            <a:xfrm rot="17060400">
              <a:off x="3565440" y="1915560"/>
              <a:ext cx="1940040" cy="223200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869400">
              <a:off x="3674520" y="2768400"/>
              <a:ext cx="170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B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479640" y="6075360"/>
            <a:ext cx="2616120" cy="67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gestã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Q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5 * D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880" y="1523880"/>
            <a:ext cx="1995840" cy="2362320"/>
            <a:chOff x="245880" y="1523880"/>
            <a:chExt cx="1995840" cy="2362320"/>
          </a:xfrm>
        </p:grpSpPr>
        <p:sp>
          <p:nvSpPr>
            <p:cNvPr id="386" name=""/>
            <p:cNvSpPr/>
            <p:nvPr/>
          </p:nvSpPr>
          <p:spPr>
            <a:xfrm>
              <a:off x="262080" y="1523880"/>
              <a:ext cx="1904760" cy="236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880" y="2054160"/>
              <a:ext cx="1995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b2b2b2"/>
                  </a:solidFill>
                  <a:latin typeface="Times New Roman"/>
                </a:rPr>
                <a:t>DQ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2080" y="1905120"/>
            <a:ext cx="1888920" cy="1489320"/>
            <a:chOff x="262080" y="1905120"/>
            <a:chExt cx="1888920" cy="1489320"/>
          </a:xfrm>
        </p:grpSpPr>
        <p:sp>
          <p:nvSpPr>
            <p:cNvPr id="389" name=""/>
            <p:cNvSpPr/>
            <p:nvPr/>
          </p:nvSpPr>
          <p:spPr>
            <a:xfrm>
              <a:off x="262080" y="25909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00" y="2690640"/>
              <a:ext cx="172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N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iodegradá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900800" y="1452600"/>
            <a:ext cx="1808640" cy="368280"/>
          </a:xfrm>
          <a:prstGeom prst="wedgeRectCallout">
            <a:avLst>
              <a:gd name="adj1" fmla="val -58097"/>
              <a:gd name="adj2" fmla="val 127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ão-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69080" y="4114800"/>
            <a:ext cx="1401840" cy="368280"/>
          </a:xfrm>
          <a:prstGeom prst="wedgeRectCallout">
            <a:avLst>
              <a:gd name="adj1" fmla="val -59754"/>
              <a:gd name="adj2" fmla="val -19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 diluir os pol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poluentes conservativos e não-conserv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395" name="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/>
                <a:ahLst/>
                <a:rect l="l" t="t" r="r" b="b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880" y="6462720"/>
            <a:ext cx="89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Órgão Ambiental e de Recursos Hídricos, Comitê,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inistério Públic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547640" y="60087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547640" y="16160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79640" y="2481120"/>
            <a:ext cx="5471640" cy="2880000"/>
            <a:chOff x="1979640" y="2481120"/>
            <a:chExt cx="5471640" cy="2880000"/>
          </a:xfrm>
        </p:grpSpPr>
        <p:sp>
          <p:nvSpPr>
            <p:cNvPr id="436" name=""/>
            <p:cNvSpPr/>
            <p:nvPr/>
          </p:nvSpPr>
          <p:spPr>
            <a:xfrm flipV="1">
              <a:off x="2987640" y="4640400"/>
              <a:ext cx="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979640" y="2481120"/>
              <a:ext cx="5471640" cy="2879640"/>
              <a:chOff x="1979640" y="2481120"/>
              <a:chExt cx="5471640" cy="2879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979640" y="536076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3240" y="464148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981240" y="392076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81240" y="393660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989240" y="321588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74840" y="32018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983200" y="248112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1640" y="2481120"/>
                <a:ext cx="143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817640" y="6172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12920" y="617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920" y="987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ão indisponível (m³/s)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brança pelo lançamento (R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7680" y="128520"/>
            <a:ext cx="6631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ção da vazão indisponível e da cobranç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usuário não trate seus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11160" y="1492200"/>
            <a:ext cx="4232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houver cobrança pelo lanç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fluentes (vazão indispon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459640" y="6237360"/>
            <a:ext cx="613080" cy="549360"/>
          </a:xfrm>
          <a:custGeom>
            <a:avLst/>
            <a:gdLst>
              <a:gd name="textAreaLeft" fmla="*/ 35280 w 613080"/>
              <a:gd name="textAreaRight" fmla="*/ 577800 w 61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5" y="7493"/>
                </a:moveTo>
                <a:lnTo>
                  <a:pt x="8553" y="7493"/>
                </a:lnTo>
                <a:lnTo>
                  <a:pt x="8553" y="12828"/>
                </a:lnTo>
                <a:cubicBezTo>
                  <a:pt x="8553" y="13751"/>
                  <a:pt x="9354" y="14482"/>
                  <a:pt x="10389" y="14482"/>
                </a:cubicBezTo>
                <a:lnTo>
                  <a:pt x="12052" y="14482"/>
                </a:lnTo>
                <a:cubicBezTo>
                  <a:pt x="13088" y="14482"/>
                  <a:pt x="13888" y="13751"/>
                  <a:pt x="13888" y="12828"/>
                </a:cubicBezTo>
                <a:lnTo>
                  <a:pt x="13888" y="7493"/>
                </a:lnTo>
                <a:lnTo>
                  <a:pt x="12052" y="7493"/>
                </a:lnTo>
                <a:lnTo>
                  <a:pt x="15559" y="3985"/>
                </a:lnTo>
                <a:lnTo>
                  <a:pt x="19232" y="7493"/>
                </a:lnTo>
                <a:lnTo>
                  <a:pt x="17396" y="7493"/>
                </a:lnTo>
                <a:lnTo>
                  <a:pt x="17396" y="12828"/>
                </a:lnTo>
                <a:cubicBezTo>
                  <a:pt x="17396" y="15596"/>
                  <a:pt x="14820" y="18155"/>
                  <a:pt x="12052" y="18155"/>
                </a:cubicBezTo>
                <a:lnTo>
                  <a:pt x="10389" y="18155"/>
                </a:lnTo>
                <a:cubicBezTo>
                  <a:pt x="7622" y="18155"/>
                  <a:pt x="5045" y="15596"/>
                  <a:pt x="504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00480" y="2637000"/>
            <a:ext cx="4398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Outorg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Situações cláss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41760" y="177840"/>
            <a:ext cx="5869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ia hidrográfica hipot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920" y="1160640"/>
            <a:ext cx="9111240" cy="4614840"/>
            <a:chOff x="34920" y="1160640"/>
            <a:chExt cx="9111240" cy="4614840"/>
          </a:xfrm>
        </p:grpSpPr>
        <p:sp>
          <p:nvSpPr>
            <p:cNvPr id="461" name=""/>
            <p:cNvSpPr/>
            <p:nvPr/>
          </p:nvSpPr>
          <p:spPr>
            <a:xfrm>
              <a:off x="8275320" y="41068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75680" y="4843440"/>
              <a:ext cx="62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920" y="1160640"/>
              <a:ext cx="9111240" cy="4614840"/>
              <a:chOff x="34920" y="1160640"/>
              <a:chExt cx="9111240" cy="46148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920" y="1897200"/>
                <a:ext cx="7664400" cy="2946240"/>
              </a:xfrm>
              <a:custGeom>
                <a:avLst/>
                <a:gdLst/>
                <a:ahLst/>
                <a:rect l="l" t="t" r="r" b="b"/>
                <a:pathLst>
                  <a:path w="4828" h="1856">
                    <a:moveTo>
                      <a:pt x="37" y="0"/>
                    </a:moveTo>
                    <a:lnTo>
                      <a:pt x="0" y="41"/>
                    </a:lnTo>
                    <a:lnTo>
                      <a:pt x="85" y="164"/>
                    </a:lnTo>
                    <a:lnTo>
                      <a:pt x="182" y="286"/>
                    </a:lnTo>
                    <a:lnTo>
                      <a:pt x="291" y="396"/>
                    </a:lnTo>
                    <a:lnTo>
                      <a:pt x="400" y="477"/>
                    </a:lnTo>
                    <a:lnTo>
                      <a:pt x="508" y="518"/>
                    </a:lnTo>
                    <a:lnTo>
                      <a:pt x="521" y="532"/>
                    </a:lnTo>
                    <a:lnTo>
                      <a:pt x="629" y="546"/>
                    </a:lnTo>
                    <a:lnTo>
                      <a:pt x="763" y="559"/>
                    </a:lnTo>
                    <a:lnTo>
                      <a:pt x="944" y="573"/>
                    </a:lnTo>
                    <a:lnTo>
                      <a:pt x="1041" y="573"/>
                    </a:lnTo>
                    <a:lnTo>
                      <a:pt x="1053" y="573"/>
                    </a:lnTo>
                    <a:lnTo>
                      <a:pt x="1174" y="573"/>
                    </a:lnTo>
                    <a:lnTo>
                      <a:pt x="1440" y="573"/>
                    </a:lnTo>
                    <a:lnTo>
                      <a:pt x="1706" y="559"/>
                    </a:lnTo>
                    <a:lnTo>
                      <a:pt x="1694" y="532"/>
                    </a:lnTo>
                    <a:lnTo>
                      <a:pt x="1694" y="559"/>
                    </a:lnTo>
                    <a:lnTo>
                      <a:pt x="1815" y="559"/>
                    </a:lnTo>
                    <a:lnTo>
                      <a:pt x="1924" y="573"/>
                    </a:lnTo>
                    <a:lnTo>
                      <a:pt x="2106" y="600"/>
                    </a:lnTo>
                    <a:lnTo>
                      <a:pt x="2251" y="628"/>
                    </a:lnTo>
                    <a:lnTo>
                      <a:pt x="2384" y="655"/>
                    </a:lnTo>
                    <a:lnTo>
                      <a:pt x="2505" y="696"/>
                    </a:lnTo>
                    <a:lnTo>
                      <a:pt x="2602" y="750"/>
                    </a:lnTo>
                    <a:lnTo>
                      <a:pt x="2614" y="723"/>
                    </a:lnTo>
                    <a:lnTo>
                      <a:pt x="2590" y="737"/>
                    </a:lnTo>
                    <a:lnTo>
                      <a:pt x="2687" y="791"/>
                    </a:lnTo>
                    <a:lnTo>
                      <a:pt x="2856" y="928"/>
                    </a:lnTo>
                    <a:lnTo>
                      <a:pt x="2929" y="983"/>
                    </a:lnTo>
                    <a:lnTo>
                      <a:pt x="3001" y="1051"/>
                    </a:lnTo>
                    <a:lnTo>
                      <a:pt x="3062" y="1105"/>
                    </a:lnTo>
                    <a:lnTo>
                      <a:pt x="3159" y="1174"/>
                    </a:lnTo>
                    <a:lnTo>
                      <a:pt x="3267" y="1242"/>
                    </a:lnTo>
                    <a:lnTo>
                      <a:pt x="3388" y="1324"/>
                    </a:lnTo>
                    <a:lnTo>
                      <a:pt x="3522" y="1406"/>
                    </a:lnTo>
                    <a:lnTo>
                      <a:pt x="3534" y="1419"/>
                    </a:lnTo>
                    <a:lnTo>
                      <a:pt x="3691" y="1488"/>
                    </a:lnTo>
                    <a:lnTo>
                      <a:pt x="3848" y="1556"/>
                    </a:lnTo>
                    <a:lnTo>
                      <a:pt x="4030" y="1610"/>
                    </a:lnTo>
                    <a:lnTo>
                      <a:pt x="4211" y="1665"/>
                    </a:lnTo>
                    <a:lnTo>
                      <a:pt x="4369" y="1706"/>
                    </a:lnTo>
                    <a:lnTo>
                      <a:pt x="4502" y="1747"/>
                    </a:lnTo>
                    <a:lnTo>
                      <a:pt x="4635" y="1788"/>
                    </a:lnTo>
                    <a:lnTo>
                      <a:pt x="4744" y="1829"/>
                    </a:lnTo>
                    <a:lnTo>
                      <a:pt x="4780" y="1842"/>
                    </a:lnTo>
                    <a:lnTo>
                      <a:pt x="4804" y="1856"/>
                    </a:lnTo>
                    <a:lnTo>
                      <a:pt x="4828" y="1802"/>
                    </a:lnTo>
                    <a:lnTo>
                      <a:pt x="4792" y="1788"/>
                    </a:lnTo>
                    <a:lnTo>
                      <a:pt x="4756" y="1774"/>
                    </a:lnTo>
                    <a:lnTo>
                      <a:pt x="4647" y="1733"/>
                    </a:lnTo>
                    <a:lnTo>
                      <a:pt x="4514" y="1692"/>
                    </a:lnTo>
                    <a:lnTo>
                      <a:pt x="4381" y="1651"/>
                    </a:lnTo>
                    <a:lnTo>
                      <a:pt x="4223" y="1610"/>
                    </a:lnTo>
                    <a:lnTo>
                      <a:pt x="4042" y="1556"/>
                    </a:lnTo>
                    <a:lnTo>
                      <a:pt x="3860" y="1501"/>
                    </a:lnTo>
                    <a:lnTo>
                      <a:pt x="3703" y="1433"/>
                    </a:lnTo>
                    <a:lnTo>
                      <a:pt x="3546" y="1365"/>
                    </a:lnTo>
                    <a:lnTo>
                      <a:pt x="3546" y="1392"/>
                    </a:lnTo>
                    <a:lnTo>
                      <a:pt x="3558" y="1365"/>
                    </a:lnTo>
                    <a:lnTo>
                      <a:pt x="3425" y="1283"/>
                    </a:lnTo>
                    <a:lnTo>
                      <a:pt x="3304" y="1201"/>
                    </a:lnTo>
                    <a:lnTo>
                      <a:pt x="3183" y="1133"/>
                    </a:lnTo>
                    <a:lnTo>
                      <a:pt x="3098" y="1064"/>
                    </a:lnTo>
                    <a:lnTo>
                      <a:pt x="3038" y="1010"/>
                    </a:lnTo>
                    <a:lnTo>
                      <a:pt x="2965" y="942"/>
                    </a:lnTo>
                    <a:lnTo>
                      <a:pt x="2880" y="887"/>
                    </a:lnTo>
                    <a:lnTo>
                      <a:pt x="2723" y="750"/>
                    </a:lnTo>
                    <a:lnTo>
                      <a:pt x="2626" y="696"/>
                    </a:lnTo>
                    <a:lnTo>
                      <a:pt x="2614" y="696"/>
                    </a:lnTo>
                    <a:lnTo>
                      <a:pt x="2517" y="641"/>
                    </a:lnTo>
                    <a:lnTo>
                      <a:pt x="2396" y="600"/>
                    </a:lnTo>
                    <a:lnTo>
                      <a:pt x="2263" y="573"/>
                    </a:lnTo>
                    <a:lnTo>
                      <a:pt x="2118" y="546"/>
                    </a:lnTo>
                    <a:lnTo>
                      <a:pt x="1924" y="518"/>
                    </a:lnTo>
                    <a:lnTo>
                      <a:pt x="1827" y="505"/>
                    </a:lnTo>
                    <a:lnTo>
                      <a:pt x="1706" y="505"/>
                    </a:lnTo>
                    <a:lnTo>
                      <a:pt x="1694" y="505"/>
                    </a:lnTo>
                    <a:lnTo>
                      <a:pt x="1428" y="518"/>
                    </a:lnTo>
                    <a:lnTo>
                      <a:pt x="1162" y="518"/>
                    </a:lnTo>
                    <a:lnTo>
                      <a:pt x="1041" y="518"/>
                    </a:lnTo>
                    <a:lnTo>
                      <a:pt x="1053" y="546"/>
                    </a:lnTo>
                    <a:lnTo>
                      <a:pt x="1053" y="518"/>
                    </a:lnTo>
                    <a:lnTo>
                      <a:pt x="944" y="518"/>
                    </a:lnTo>
                    <a:lnTo>
                      <a:pt x="775" y="505"/>
                    </a:lnTo>
                    <a:lnTo>
                      <a:pt x="642" y="491"/>
                    </a:lnTo>
                    <a:lnTo>
                      <a:pt x="533" y="477"/>
                    </a:lnTo>
                    <a:lnTo>
                      <a:pt x="521" y="505"/>
                    </a:lnTo>
                    <a:lnTo>
                      <a:pt x="545" y="477"/>
                    </a:lnTo>
                    <a:lnTo>
                      <a:pt x="424" y="423"/>
                    </a:lnTo>
                    <a:lnTo>
                      <a:pt x="327" y="355"/>
                    </a:lnTo>
                    <a:lnTo>
                      <a:pt x="218" y="245"/>
                    </a:lnTo>
                    <a:lnTo>
                      <a:pt x="121" y="12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31880" y="1160640"/>
                <a:ext cx="1249560" cy="1753920"/>
              </a:xfrm>
              <a:custGeom>
                <a:avLst/>
                <a:gdLst/>
                <a:ahLst/>
                <a:rect l="l" t="t" r="r" b="b"/>
                <a:pathLst>
                  <a:path w="787" h="1105">
                    <a:moveTo>
                      <a:pt x="12" y="0"/>
                    </a:moveTo>
                    <a:lnTo>
                      <a:pt x="0" y="27"/>
                    </a:lnTo>
                    <a:lnTo>
                      <a:pt x="133" y="191"/>
                    </a:lnTo>
                    <a:lnTo>
                      <a:pt x="279" y="327"/>
                    </a:lnTo>
                    <a:lnTo>
                      <a:pt x="351" y="382"/>
                    </a:lnTo>
                    <a:lnTo>
                      <a:pt x="424" y="436"/>
                    </a:lnTo>
                    <a:lnTo>
                      <a:pt x="496" y="477"/>
                    </a:lnTo>
                    <a:lnTo>
                      <a:pt x="569" y="532"/>
                    </a:lnTo>
                    <a:lnTo>
                      <a:pt x="593" y="600"/>
                    </a:lnTo>
                    <a:lnTo>
                      <a:pt x="605" y="587"/>
                    </a:lnTo>
                    <a:lnTo>
                      <a:pt x="593" y="587"/>
                    </a:lnTo>
                    <a:lnTo>
                      <a:pt x="617" y="655"/>
                    </a:lnTo>
                    <a:lnTo>
                      <a:pt x="630" y="709"/>
                    </a:lnTo>
                    <a:lnTo>
                      <a:pt x="666" y="791"/>
                    </a:lnTo>
                    <a:lnTo>
                      <a:pt x="666" y="778"/>
                    </a:lnTo>
                    <a:lnTo>
                      <a:pt x="654" y="791"/>
                    </a:lnTo>
                    <a:lnTo>
                      <a:pt x="690" y="901"/>
                    </a:lnTo>
                    <a:lnTo>
                      <a:pt x="714" y="969"/>
                    </a:lnTo>
                    <a:lnTo>
                      <a:pt x="726" y="1023"/>
                    </a:lnTo>
                    <a:lnTo>
                      <a:pt x="738" y="1023"/>
                    </a:lnTo>
                    <a:lnTo>
                      <a:pt x="738" y="1051"/>
                    </a:lnTo>
                    <a:lnTo>
                      <a:pt x="751" y="1064"/>
                    </a:lnTo>
                    <a:lnTo>
                      <a:pt x="751" y="1078"/>
                    </a:lnTo>
                    <a:lnTo>
                      <a:pt x="775" y="1105"/>
                    </a:lnTo>
                    <a:lnTo>
                      <a:pt x="787" y="1078"/>
                    </a:lnTo>
                    <a:lnTo>
                      <a:pt x="763" y="1051"/>
                    </a:lnTo>
                    <a:lnTo>
                      <a:pt x="763" y="1064"/>
                    </a:lnTo>
                    <a:lnTo>
                      <a:pt x="775" y="1064"/>
                    </a:lnTo>
                    <a:lnTo>
                      <a:pt x="763" y="1051"/>
                    </a:lnTo>
                    <a:lnTo>
                      <a:pt x="751" y="1010"/>
                    </a:lnTo>
                    <a:lnTo>
                      <a:pt x="738" y="1010"/>
                    </a:lnTo>
                    <a:lnTo>
                      <a:pt x="751" y="1010"/>
                    </a:lnTo>
                    <a:lnTo>
                      <a:pt x="738" y="969"/>
                    </a:lnTo>
                    <a:lnTo>
                      <a:pt x="714" y="901"/>
                    </a:lnTo>
                    <a:lnTo>
                      <a:pt x="678" y="778"/>
                    </a:lnTo>
                    <a:lnTo>
                      <a:pt x="678" y="778"/>
                    </a:lnTo>
                    <a:lnTo>
                      <a:pt x="654" y="709"/>
                    </a:lnTo>
                    <a:lnTo>
                      <a:pt x="642" y="655"/>
                    </a:lnTo>
                    <a:lnTo>
                      <a:pt x="617" y="587"/>
                    </a:lnTo>
                    <a:lnTo>
                      <a:pt x="605" y="573"/>
                    </a:lnTo>
                    <a:lnTo>
                      <a:pt x="581" y="505"/>
                    </a:lnTo>
                    <a:lnTo>
                      <a:pt x="509" y="450"/>
                    </a:lnTo>
                    <a:lnTo>
                      <a:pt x="436" y="409"/>
                    </a:lnTo>
                    <a:lnTo>
                      <a:pt x="363" y="355"/>
                    </a:lnTo>
                    <a:lnTo>
                      <a:pt x="291" y="300"/>
                    </a:lnTo>
                    <a:lnTo>
                      <a:pt x="146" y="16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43840" y="3586320"/>
                <a:ext cx="979200" cy="2189160"/>
              </a:xfrm>
              <a:custGeom>
                <a:avLst/>
                <a:gdLst/>
                <a:ahLst/>
                <a:rect l="l" t="t" r="r" b="b"/>
                <a:pathLst>
                  <a:path w="617" h="1379">
                    <a:moveTo>
                      <a:pt x="24" y="1379"/>
                    </a:moveTo>
                    <a:lnTo>
                      <a:pt x="12" y="1365"/>
                    </a:lnTo>
                    <a:lnTo>
                      <a:pt x="0" y="1338"/>
                    </a:lnTo>
                    <a:lnTo>
                      <a:pt x="12" y="1311"/>
                    </a:lnTo>
                    <a:lnTo>
                      <a:pt x="36" y="1256"/>
                    </a:lnTo>
                    <a:lnTo>
                      <a:pt x="60" y="1215"/>
                    </a:lnTo>
                    <a:lnTo>
                      <a:pt x="84" y="1174"/>
                    </a:lnTo>
                    <a:lnTo>
                      <a:pt x="169" y="1051"/>
                    </a:lnTo>
                    <a:lnTo>
                      <a:pt x="242" y="942"/>
                    </a:lnTo>
                    <a:lnTo>
                      <a:pt x="314" y="847"/>
                    </a:lnTo>
                    <a:lnTo>
                      <a:pt x="350" y="792"/>
                    </a:lnTo>
                    <a:lnTo>
                      <a:pt x="363" y="765"/>
                    </a:lnTo>
                    <a:lnTo>
                      <a:pt x="375" y="738"/>
                    </a:lnTo>
                    <a:lnTo>
                      <a:pt x="387" y="710"/>
                    </a:lnTo>
                    <a:lnTo>
                      <a:pt x="411" y="669"/>
                    </a:lnTo>
                    <a:lnTo>
                      <a:pt x="447" y="601"/>
                    </a:lnTo>
                    <a:lnTo>
                      <a:pt x="508" y="478"/>
                    </a:lnTo>
                    <a:lnTo>
                      <a:pt x="544" y="342"/>
                    </a:lnTo>
                    <a:lnTo>
                      <a:pt x="568" y="205"/>
                    </a:lnTo>
                    <a:lnTo>
                      <a:pt x="592" y="82"/>
                    </a:lnTo>
                    <a:lnTo>
                      <a:pt x="617" y="28"/>
                    </a:lnTo>
                    <a:lnTo>
                      <a:pt x="617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01840" y="261144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5080" y="1787760"/>
                <a:ext cx="306360" cy="304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46960" y="434520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25160" y="29797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46080" y="161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6240" y="39769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76760" y="447516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r ou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935520" y="3868920"/>
                <a:ext cx="1363320" cy="823680"/>
                <a:chOff x="3935520" y="3868920"/>
                <a:chExt cx="1363320" cy="823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35520" y="3868920"/>
                  <a:ext cx="1228680" cy="75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068800" y="4497480"/>
                  <a:ext cx="230040" cy="19512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0" y="123"/>
                      </a:moveTo>
                      <a:lnTo>
                        <a:pt x="145" y="123"/>
                      </a:lnTo>
                      <a:lnTo>
                        <a:pt x="72" y="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011120" y="4324320"/>
                <a:ext cx="685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lux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6240" y="47196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680" y="4640400"/>
                <a:ext cx="1959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uário exist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560" y="4235400"/>
                <a:ext cx="11314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egend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09480" y="3029040"/>
            <a:ext cx="5200200" cy="2481120"/>
            <a:chOff x="609480" y="3029040"/>
            <a:chExt cx="5200200" cy="2481120"/>
          </a:xfrm>
        </p:grpSpPr>
        <p:grpSp>
          <p:nvGrpSpPr>
            <p:cNvPr id="482" name=""/>
            <p:cNvGrpSpPr/>
            <p:nvPr/>
          </p:nvGrpSpPr>
          <p:grpSpPr>
            <a:xfrm>
              <a:off x="4937040" y="3029040"/>
              <a:ext cx="872640" cy="844560"/>
              <a:chOff x="4937040" y="3029040"/>
              <a:chExt cx="872640" cy="84456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10920" y="3029040"/>
                <a:ext cx="698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ov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69760" y="169920"/>
            <a:ext cx="643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as de captaçã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16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35120" y="1165320"/>
            <a:ext cx="124956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47080" y="3591000"/>
            <a:ext cx="97920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5080" y="261612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8320" y="1792440"/>
            <a:ext cx="306360" cy="304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50200" y="434988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59520" y="301932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 (Qcap = 1,2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43920" y="16192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(Qcap = 0,5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09240" y="38098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(Qcap = 0,9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8760" y="3873600"/>
            <a:ext cx="1363320" cy="823680"/>
            <a:chOff x="3938760" y="3873600"/>
            <a:chExt cx="1363320" cy="823680"/>
          </a:xfrm>
        </p:grpSpPr>
        <p:sp>
          <p:nvSpPr>
            <p:cNvPr id="505" name=""/>
            <p:cNvSpPr/>
            <p:nvPr/>
          </p:nvSpPr>
          <p:spPr>
            <a:xfrm>
              <a:off x="393876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204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0143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0920" y="4645080"/>
            <a:ext cx="195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3800" y="4240080"/>
            <a:ext cx="113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029040"/>
            <a:ext cx="6457320" cy="2481120"/>
            <a:chOff x="609480" y="3029040"/>
            <a:chExt cx="6457320" cy="2481120"/>
          </a:xfrm>
        </p:grpSpPr>
        <p:grpSp>
          <p:nvGrpSpPr>
            <p:cNvPr id="512" name=""/>
            <p:cNvGrpSpPr/>
            <p:nvPr/>
          </p:nvGrpSpPr>
          <p:grpSpPr>
            <a:xfrm>
              <a:off x="4937040" y="3029040"/>
              <a:ext cx="2129760" cy="844560"/>
              <a:chOff x="4937040" y="3029040"/>
              <a:chExt cx="2129760" cy="844560"/>
            </a:xfrm>
          </p:grpSpPr>
          <p:sp>
            <p:nvSpPr>
              <p:cNvPr id="51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06240" y="3029040"/>
                <a:ext cx="196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Novo (Qcap = ?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22360" y="5522760"/>
            <a:ext cx="275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ca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vazão de c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19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27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31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36880" y="171360"/>
            <a:ext cx="565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onibilidade hídric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6360" y="1366920"/>
            <a:ext cx="7318800" cy="4516200"/>
            <a:chOff x="576360" y="1366920"/>
            <a:chExt cx="7318800" cy="4516200"/>
          </a:xfrm>
        </p:grpSpPr>
        <p:grpSp>
          <p:nvGrpSpPr>
            <p:cNvPr id="543" name=""/>
            <p:cNvGrpSpPr/>
            <p:nvPr/>
          </p:nvGrpSpPr>
          <p:grpSpPr>
            <a:xfrm>
              <a:off x="1366920" y="1366920"/>
              <a:ext cx="6528240" cy="2839680"/>
              <a:chOff x="1366920" y="1366920"/>
              <a:chExt cx="6528240" cy="2839680"/>
            </a:xfrm>
          </p:grpSpPr>
          <p:sp>
            <p:nvSpPr>
              <p:cNvPr id="544" name=""/>
              <p:cNvSpPr/>
              <p:nvPr/>
            </p:nvSpPr>
            <p:spPr>
              <a:xfrm>
                <a:off x="3214800" y="136692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75200" y="38098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2200" y="31240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0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66920" y="297180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6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6360" y="5486400"/>
              <a:ext cx="2689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disp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disponí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20520" y="907920"/>
            <a:ext cx="7745400" cy="416268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54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03120" y="177840"/>
            <a:ext cx="57186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rições de vazão mín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cologia, navegaçã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66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82840" y="1366920"/>
            <a:ext cx="7233840" cy="4500360"/>
            <a:chOff x="582840" y="1366920"/>
            <a:chExt cx="7233840" cy="4500360"/>
          </a:xfrm>
        </p:grpSpPr>
        <p:grpSp>
          <p:nvGrpSpPr>
            <p:cNvPr id="570" name=""/>
            <p:cNvGrpSpPr/>
            <p:nvPr/>
          </p:nvGrpSpPr>
          <p:grpSpPr>
            <a:xfrm>
              <a:off x="1381680" y="1366920"/>
              <a:ext cx="6435000" cy="2839680"/>
              <a:chOff x="1381680" y="1366920"/>
              <a:chExt cx="6435000" cy="2839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29560" y="136692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2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3680" y="38098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9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10680" y="31240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7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81680" y="297180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4,5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82840" y="5470560"/>
              <a:ext cx="237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mín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mín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3636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0160" y="-2736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lanço hídrico quanti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zão remanescente (Qrem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zão que resta no manancial após desconto das demandas de montante e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= Qdisp - Soma (Qc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monta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azão remanescente deve ser igual ou maior que a vazão de restrição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Q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9840" y="604800"/>
            <a:ext cx="897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t. 12. Estão sujeitos a outorga pelo Poder Público os direitos dos seguintes usos de recursos hídric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II -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ançament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diluiçã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9840" y="623880"/>
            <a:ext cx="8977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97360" y="2133720"/>
            <a:ext cx="68238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de Lançamen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de Efluen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ituações clás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460680" y="5754600"/>
            <a:ext cx="260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397320" y="6232680"/>
            <a:ext cx="1819080" cy="61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5280" y="6391440"/>
            <a:ext cx="2983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na tabela para e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6160" y="-3528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çõ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ativa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x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Pró-ati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0880" y="620640"/>
            <a:ext cx="90406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usuários de água bruta existem no Brasil?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 milhõ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estão regularizados?  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0066ff"/>
                </a:solidFill>
                <a:latin typeface="Times New Roman"/>
              </a:rPr>
              <a:t>95 m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 que uma diferença tão gran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co conhecimento da legislação por part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ições públicas deficientes 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-estru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l técnico especia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ocracia excessi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idades de outorga baseadas 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Balc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ações via formulários impr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álise dos pedidos de outorga caso 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mpanhas de Regula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arcos Regulatórios de Us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astro Nacional de Usuários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cto de Comitê para redução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454720" y="5589720"/>
            <a:ext cx="2072880" cy="1080720"/>
            <a:chOff x="5454720" y="5589720"/>
            <a:chExt cx="2072880" cy="1080720"/>
          </a:xfrm>
        </p:grpSpPr>
        <p:sp>
          <p:nvSpPr>
            <p:cNvPr id="604" name=""/>
            <p:cNvSpPr/>
            <p:nvPr/>
          </p:nvSpPr>
          <p:spPr>
            <a:xfrm>
              <a:off x="5454720" y="5589720"/>
              <a:ext cx="432000" cy="108072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28080 h 1080720"/>
                <a:gd name="textAreaBottom" fmla="*/ 1052640 h 10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48920" y="5792400"/>
              <a:ext cx="1678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cc"/>
                  </a:solidFill>
                  <a:latin typeface="Times New Roman"/>
                </a:rPr>
                <a:t>Pro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67280" y="3789360"/>
            <a:ext cx="1845720" cy="933480"/>
            <a:chOff x="5867280" y="3789360"/>
            <a:chExt cx="1845720" cy="933480"/>
          </a:xfrm>
        </p:grpSpPr>
        <p:sp>
          <p:nvSpPr>
            <p:cNvPr id="607" name=""/>
            <p:cNvSpPr/>
            <p:nvPr/>
          </p:nvSpPr>
          <p:spPr>
            <a:xfrm>
              <a:off x="5867280" y="3789360"/>
              <a:ext cx="356400" cy="933480"/>
            </a:xfrm>
            <a:custGeom>
              <a:avLst/>
              <a:gdLst>
                <a:gd name="textAreaLeft" fmla="*/ 0 w 356400"/>
                <a:gd name="textAreaRight" fmla="*/ 128520 w 3564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3962520"/>
              <a:ext cx="152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e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Acesse o Portal do Governo Brasileir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6315120"/>
            <a:ext cx="1908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98640" y="1523520"/>
            <a:ext cx="9063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e direito de uso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da outo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rá condicionada às prioridades de uso estabelecidas nos Planos de Recursos Hídricos 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r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eit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lasse em que o corpo hídrico estiv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quad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 manutenção de condições adequadas ao transporte aquaviário, quando for o ca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único. “A outorga de uso dos recursos hídricos deverá preservar o uso múltiplo des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CALAS DE TRABALHO</a:t>
            </a:r>
            <a:br>
              <a:rPr sz="48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ticulação entre a Outorga e o Licenciamento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616" name="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625" name="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626" name="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634" name="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638" name="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01200" y="41400"/>
            <a:ext cx="810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cada órgão faz? Uma questão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ria a autoridade outorgante realizar a análise de todos os parâmetros de qualidade relacionados na Norma ou apenas daqueles parâmetros que afetam significativamente os usos econômicos dos recursos hídricos? Ou daqueles parâmetros exclusivamente auto-depuráv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beria à área ambiental a análise dos parâmetros que afetam a preservação ambiental? Ou seja, todos? E a questão de esc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veria duplicidade de trabalho pelo Poder Público com essa abordag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ria a outorga para lançamento de efluentes ser emitida pela área ambiental? Ou seja, fazer dessa análise parte apenas do licenciamento e não da outor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1341360"/>
            <a:ext cx="777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uso do recurso hídrico pelo requerente, m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 direito de “ligar a sua bomba”, que, em outras palavras, significa fazer funcionar o seu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 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6720" y="220680"/>
            <a:ext cx="732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orga x Licenciament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413000"/>
            <a:ext cx="866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utorga é um instrume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ipli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busc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n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usos e usuários de água, dentro de u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ógica sistêm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cia hidrográfica), de mod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tar confl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a garantir o múltiplo uso das águas, su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on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que se busca com a outo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o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8920" y="1160640"/>
            <a:ext cx="89661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grandes aglomerados urbanos estão concentrados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stituição da cobrança apenas para usuários do rio Paraíba do Sul privilegia os usuários dos afluentes esta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26640" y="333360"/>
            <a:ext cx="7157520" cy="82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186920" y="1687680"/>
            <a:ext cx="6122880" cy="3507120"/>
            <a:chOff x="1186920" y="1687680"/>
            <a:chExt cx="6122880" cy="3507120"/>
          </a:xfrm>
        </p:grpSpPr>
        <p:grpSp>
          <p:nvGrpSpPr>
            <p:cNvPr id="654" name=""/>
            <p:cNvGrpSpPr/>
            <p:nvPr/>
          </p:nvGrpSpPr>
          <p:grpSpPr>
            <a:xfrm>
              <a:off x="1186920" y="1687680"/>
              <a:ext cx="1850760" cy="785520"/>
              <a:chOff x="1186920" y="1687680"/>
              <a:chExt cx="1850760" cy="7855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2291760" y="1687680"/>
                <a:ext cx="745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619000">
                <a:off x="1230120" y="213048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560960" y="4018680"/>
              <a:ext cx="2097720" cy="669600"/>
              <a:chOff x="1560960" y="4018680"/>
              <a:chExt cx="2097720" cy="6696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25800">
                <a:off x="2472840" y="4105080"/>
                <a:ext cx="1183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40800">
                <a:off x="1566000" y="4021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23040" y="4552200"/>
              <a:ext cx="1886760" cy="642600"/>
              <a:chOff x="5423040" y="4552200"/>
              <a:chExt cx="1886760" cy="6426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rot="21592800">
                <a:off x="6336000" y="4622760"/>
                <a:ext cx="973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800">
                <a:off x="5427720" y="4552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395280" y="1643400"/>
            <a:ext cx="8412120" cy="4051440"/>
            <a:chOff x="395280" y="1643400"/>
            <a:chExt cx="8412120" cy="4051440"/>
          </a:xfrm>
        </p:grpSpPr>
        <p:grpSp>
          <p:nvGrpSpPr>
            <p:cNvPr id="697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2920" y="2646360"/>
                <a:ext cx="15202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rot="16200000">
              <a:off x="463680" y="2036880"/>
              <a:ext cx="1061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787200">
              <a:off x="673560" y="4051440"/>
              <a:ext cx="9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7629200">
              <a:off x="4412520" y="4679280"/>
              <a:ext cx="13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43000" y="2252520"/>
            <a:ext cx="7677000" cy="4371480"/>
            <a:chOff x="1143000" y="2252520"/>
            <a:chExt cx="7677000" cy="4371480"/>
          </a:xfrm>
        </p:grpSpPr>
        <p:sp>
          <p:nvSpPr>
            <p:cNvPr id="710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2240" y="625788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0588" t="33495" r="19857" b="1591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84840" y="1429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de uso preponderantes para águas d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s pela Resolução CONAMA nº 357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506" t="52762" r="17775" b="26118"/>
          <a:stretch/>
        </p:blipFill>
        <p:spPr>
          <a:xfrm>
            <a:off x="0" y="1957320"/>
            <a:ext cx="9144000" cy="269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320" y="307800"/>
            <a:ext cx="7594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mites de concentração para alguns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gundo a resolução CONAMA n.º 357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rts. 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ao 6º e 14 ao 2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5360" y="5229360"/>
            <a:ext cx="67262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880" y="5735520"/>
            <a:ext cx="7777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. do efluente ≤ Padrão de efluente (senão, fere Co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ões indisponíveis ≤ Vazão do r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senão, fere Enquadr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102" name="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920" y="620640"/>
            <a:ext cx="5489640" cy="4483080"/>
            <a:chOff x="358920" y="620640"/>
            <a:chExt cx="5489640" cy="4483080"/>
          </a:xfrm>
        </p:grpSpPr>
        <p:grpSp>
          <p:nvGrpSpPr>
            <p:cNvPr id="109" name=""/>
            <p:cNvGrpSpPr/>
            <p:nvPr/>
          </p:nvGrpSpPr>
          <p:grpSpPr>
            <a:xfrm>
              <a:off x="2606760" y="620640"/>
              <a:ext cx="3241800" cy="2483640"/>
              <a:chOff x="2606760" y="620640"/>
              <a:chExt cx="3241800" cy="24836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49440" y="620640"/>
                <a:ext cx="1871640" cy="1728720"/>
                <a:chOff x="3349440" y="620640"/>
                <a:chExt cx="1871640" cy="1728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6544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4944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606760" y="11350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5440" y="1484280"/>
                <a:ext cx="1512720" cy="865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080" y="2463840"/>
                <a:ext cx="2832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Vol. Diluiçã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Qdi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Natural (Cna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58920" y="3141720"/>
              <a:ext cx="3673440" cy="1962000"/>
              <a:chOff x="358920" y="3141720"/>
              <a:chExt cx="3673440" cy="1962000"/>
            </a:xfrm>
          </p:grpSpPr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358920" y="4365720"/>
                    <a:ext cx="3208320" cy="73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 flipH="1">
                <a:off x="2087640" y="3141720"/>
                <a:ext cx="1944720" cy="11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643280" y="620640"/>
            <a:ext cx="4512240" cy="5464080"/>
            <a:chOff x="4643280" y="620640"/>
            <a:chExt cx="4512240" cy="5464080"/>
          </a:xfrm>
        </p:grpSpPr>
        <p:grpSp>
          <p:nvGrpSpPr>
            <p:cNvPr id="120" name=""/>
            <p:cNvGrpSpPr/>
            <p:nvPr/>
          </p:nvGrpSpPr>
          <p:grpSpPr>
            <a:xfrm>
              <a:off x="5713560" y="620640"/>
              <a:ext cx="3441960" cy="2714400"/>
              <a:chOff x="5713560" y="620640"/>
              <a:chExt cx="3441960" cy="2714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445080" y="620640"/>
                <a:ext cx="1871640" cy="1728720"/>
                <a:chOff x="6445080" y="620640"/>
                <a:chExt cx="1871640" cy="1728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6108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4508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3560" y="11206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59640" y="1063800"/>
                <a:ext cx="1512720" cy="128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54600" y="2451240"/>
                <a:ext cx="3400920" cy="8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Indisponível (Qindis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per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3280" y="3141720"/>
              <a:ext cx="3996000" cy="2943000"/>
              <a:chOff x="4643280" y="3141720"/>
              <a:chExt cx="3996000" cy="2943000"/>
            </a:xfrm>
          </p:grpSpPr>
          <mc:AlternateContent>
            <mc:Choice xmlns:a14="http://schemas.microsoft.com/office/drawing/2010/main" Requires="a14">
              <p:sp>
                <p:nvSpPr>
                  <p:cNvPr id="128" name=""/>
                  <p:cNvSpPr txBox="1"/>
                  <p:nvPr/>
                </p:nvSpPr>
                <p:spPr>
                  <a:xfrm>
                    <a:off x="4643280" y="5481720"/>
                    <a:ext cx="39960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" name=""/>
              <p:cNvSpPr/>
              <p:nvPr/>
            </p:nvSpPr>
            <p:spPr>
              <a:xfrm flipH="1">
                <a:off x="5651640" y="3141720"/>
                <a:ext cx="792000" cy="20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600" y="2060640"/>
            <a:ext cx="4821120" cy="1223640"/>
            <a:chOff x="471600" y="2060640"/>
            <a:chExt cx="4821120" cy="122364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969840" y="2376000"/>
                  <a:ext cx="432288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9640" y="3357720"/>
            <a:ext cx="8713080" cy="1371600"/>
            <a:chOff x="179640" y="3357720"/>
            <a:chExt cx="8713080" cy="1371600"/>
          </a:xfrm>
        </p:grpSpPr>
        <p:sp>
          <p:nvSpPr>
            <p:cNvPr id="136" name=""/>
            <p:cNvSpPr/>
            <p:nvPr/>
          </p:nvSpPr>
          <p:spPr>
            <a:xfrm>
              <a:off x="179640" y="335772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920" y="3891240"/>
                  <a:ext cx="8236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14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152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166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169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172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175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79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03480" y="2519280"/>
              <a:ext cx="180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21:17Z</dcterms:created>
  <dc:creator>LUCIANO</dc:creator>
  <dc:description/>
  <dc:language>en-US</dc:language>
  <cp:lastModifiedBy>RESIDENCIAL</cp:lastModifiedBy>
  <dcterms:modified xsi:type="dcterms:W3CDTF">2005-11-06T23:47:03Z</dcterms:modified>
  <cp:revision>268</cp:revision>
  <dc:subject/>
  <dc:title>Slide 1</dc:title>
</cp:coreProperties>
</file>